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F24-96E2-44C3-9A11-0C5D7C29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2B5-135F-4D75-BB38-C20179D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A96-B7DE-4220-A8ED-B8AA4143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5F2-974F-4DB0-BD8D-7FCA11B6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8BC-9ADC-4998-AF3C-EAA9BB3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A73-D190-490C-BAA1-0A858A5B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523-11C1-457B-BFFE-C0E4B359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9CA-B4E9-4C82-910E-D59B2DD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140-8997-4FFD-9662-AE7ED72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870-17C7-4BC1-8FA6-3425CA3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784-09AB-42F3-86FA-379CDCB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09E-7DA8-4659-9029-468FC791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65AD-E517-415E-A71D-A0E62ABC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2:  Comparing Two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e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we assume that the difference in proportions is zero, we are therefore saying that the two proportions are assumed to b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wo proportions are assumed to be equal, then we also assume that their standard errors are also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4724280"/>
            <a:ext cx="403848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e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calculate what that equal proportion is, we combine the data (pool the data) to get one overall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ooled proportion is then used to find the standard err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4038480" cy="771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7620120" cy="1185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59436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“successes” are whol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3047760"/>
            <a:ext cx="9144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roportion z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ecking “Success/Failure Condition” you should be chec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ssumptions/conditions and NEVER use two-proportion method if they are not satis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method as with one-propor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-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calculator (STAT TE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with the alternative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difference between the proportion of males and females who have graduated from high school?  Perform a 2-proportion z-test.  (Remember, you have already satisfied the conditions necessary to proce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pg 510,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hapter, we take what we have learned and apply it to comparing two proportions and determining if there is a difference between the two proportions (obtained from two samp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 and Conditions for Two-Proportion z-interval and Two-Proportion z-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 (Individuals  Assump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Group Assum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ssumed by looking at the way data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al Distribution Assum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/Failur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Distribution Model for a Difference Between Two-Independent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57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, if we know population proportion (very unlik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752480" y="464796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46600" y="578340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 make our sampling model (Normal Model)—may need to 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termine a Two-Proportion z-Inter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don’t know population proportions (lik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52480" y="50288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gazine article surveyed 12,460 males and 12,678 females to see if they had finished high school (all aged 24).  84.9% of males and 88.1 females reported “yes”.  Create a 95% confidence interval for the difference in graduation rates between males and females and interpret it in con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ropor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we start off with our null hypothesis stating that there is NO difference between the two grou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the null hypothesis basically says that nothing is go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ropor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Null Hypothesis, typically looks like (but in context for subscripts)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886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6:33:47Z</dcterms:created>
  <dc:creator> </dc:creator>
  <dc:description/>
  <dc:language>en-US</dc:language>
  <cp:lastModifiedBy> </cp:lastModifiedBy>
  <dcterms:modified xsi:type="dcterms:W3CDTF">2009-12-14T07:18:47Z</dcterms:modified>
  <cp:revision>11</cp:revision>
  <dc:subject/>
  <dc:title>Chapter 22:  Comparing Two Proportions</dc:title>
</cp:coreProperties>
</file>